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95E-CCBB-4719-B5F2-2EA2F13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9E7-59F9-4B31-8C62-5B27C44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55A-EF02-4651-B3DF-72203A2C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81C-527C-42D8-A5A9-739C0F5A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D40-37D4-4179-B997-44A850E2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96C-1B02-4613-8C57-AEC3C28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9E3-0D52-4DA0-B8E9-90F44729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030-B825-42F1-BBB5-2D9CC03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37F-EA03-44E8-840E-7E4A649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CF0-0D1E-4804-80F2-2E3C256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7F7-163D-476E-B4FD-87EA125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ED8-5FC0-452E-AB40-587DBD3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61E1-9DBC-42D0-8A6A-B80A88B09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pes in the Real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Mrs. Vogl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Video 9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117voglm\Local Settings\Temporary Internet Files\Content.IE5\F19VE44U\MM900041090[1].gif"/>
          <p:cNvPicPr/>
          <p:nvPr/>
        </p:nvPicPr>
        <p:blipFill>
          <a:blip r:embed="rId1"/>
          <a:stretch/>
        </p:blipFill>
        <p:spPr>
          <a:xfrm>
            <a:off x="2057400" y="2057400"/>
            <a:ext cx="44402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math pictures shapes 02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4" descr="math pictures shapes 02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math pictures shapes 02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5" descr="Video 4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Video 5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Video 6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4" descr="Video 7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676520" y="612720"/>
            <a:ext cx="6781680" cy="3578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e end of the square was a little cut off but it is a square in the real world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990720"/>
            <a:ext cx="2362320" cy="2438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Video 8 0 00 00-01.jpg"/>
          <p:cNvPicPr/>
          <p:nvPr/>
        </p:nvPicPr>
        <p:blipFill>
          <a:blip r:embed="rId1"/>
          <a:srcRect l="12502" t="0" r="12502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5:56:32Z</dcterms:created>
  <dc:creator>117voglm</dc:creator>
  <dc:description/>
  <dc:language>en-US</dc:language>
  <cp:lastModifiedBy>shippc</cp:lastModifiedBy>
  <dcterms:modified xsi:type="dcterms:W3CDTF">2010-10-01T17:02:01Z</dcterms:modified>
  <cp:revision>2</cp:revision>
  <dc:subject/>
  <dc:title>Our Class Shape Hunt</dc:title>
</cp:coreProperties>
</file>